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75A-987A-4EC4-A97D-2A95042A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cution of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remburg La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935 deprived Jews of all rights of citize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938, 25% of German Jews had emigrated (many were the "cream of the crop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istallnac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“The Night of Broken Glass”) --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-organized wave of violence destroyed homes, synagogues, and busi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Jews were arrested and made to pay for the da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ocau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6 million European Jews eventually killed during WWII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Final Solution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ictims of persecution included Slavs, Gypsies, Jehovah’s Witnesses, communists, homosexuals, mentally and physically handicapped, and political opponents (totaled 6 million by 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9C2-1ABD-4FDA-9E63-38628355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BAC-3272-42CE-92E1-FB4DE68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899-D1FC-4597-ADE4-EE93D497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81C-2C4F-41DC-9FF9-D1C8AEB9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864-DB74-4800-B2BA-F2E1B868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0AB-E82F-4780-ACAA-7527554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605-07FD-40E9-AEE9-2C57C4C9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11C-BDAA-43ED-8C24-7DBB3DFC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16D-59F5-49F0-A9D0-A1A1430B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8A1-2989-4453-A03C-CC63403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6DD-C85B-4242-B578-ACEB2B1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92B-6A06-432A-BCC9-E8B121C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9706-0CC5-43CF-A9FE-711F734F7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place.com/worldwar2/holocaust/h-statistics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HrombDUtOYY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ges-Od4tR0I" TargetMode="External"/><Relationship Id="rId3" Type="http://schemas.openxmlformats.org/officeDocument/2006/relationships/hyperlink" Target="http://www.youtube.com/watch?v=UvbBD8vJbb4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, Events, &amp;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14600" y="939960"/>
            <a:ext cx="5168880" cy="56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47600"/>
            <a:ext cx="4340520" cy="317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676520" y="4476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matoria at Majda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91120" y="3638520"/>
            <a:ext cx="462744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2739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nce to Auschw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522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289080"/>
            <a:ext cx="8001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80000"/>
                </a:solidFill>
                <a:latin typeface="Nosferatu"/>
              </a:rPr>
              <a:t>Horrors</a:t>
            </a: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095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lave Labor at Buchenw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905120" y="1066680"/>
            <a:ext cx="6248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212760"/>
            <a:ext cx="800100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80000"/>
                </a:solidFill>
                <a:latin typeface="Comic Sans MS"/>
              </a:rPr>
              <a:t>Horrors of the Holocaust Expos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s Graves at Bergen-Bel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5181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story Place - Holocaus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76320"/>
            <a:ext cx="75438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80000"/>
                </a:solidFill>
                <a:latin typeface="Comic Sans MS"/>
              </a:rPr>
              <a:t>The Nuremberg War Trials:</a:t>
            </a:r>
            <a:br>
              <a:rPr sz="3800"/>
            </a:br>
            <a:r>
              <a:rPr b="1" i="1" lang="en-US" sz="3400" spc="-1" strike="noStrike">
                <a:solidFill>
                  <a:srgbClr val="d80000"/>
                </a:solidFill>
                <a:latin typeface="Comic Sans MS"/>
              </a:rPr>
              <a:t>Crimes Against Huma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52480" y="1422360"/>
            <a:ext cx="655344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s not one of them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irst they came for the Communists but I was not a Communist so I did not speak out; Then they came for the Socialists and Trade Unionists but I was not one of them, so I did not speak out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came for the Jews but I was not Jewish, so I did not speak out. And when they came for me, there was no one left to speak out for m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n Niemoller 1892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iti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the end of 1934, most Jewish lawyers, doctors, professors, civil servants, and musicians had lost their jobs and the right to practice their prof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uremburg Law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of 1935 deprived Jews of all rights of citize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1938, 25% of German Jews had emigrated (many were the "cream of the crop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“The Night of Broken Glass”) -- 19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ing assassination of a German diplomat in Paris by young Jewish boy as pretense, Hitler ordered an attack on Jewish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ll-organized wave of violence destroyed homes, synagogues, and busi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ousands of Jews were arrested and made to pay for the damage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ing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ristallnach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(“The Night of Broken Glass”) – 1938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ight of Broken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Semitic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2080" y="559908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EDUCATION REMOVING JEWISH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40796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, lured by go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tand disgraced in Judah's f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ls poisoned, blood infect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ter broods in their wom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56160" y="1789200"/>
            <a:ext cx="458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toon shows a Jew politely asking for room on the bench, after which he shoves the previous inhabitant off. The poem notes that Jews behave the same way in other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8640" y="110340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not worth l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does not resist the paras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satisfied as it creeps ab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and will w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63800" y="2682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n the Camps Surviv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rival at the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uschw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1:11:52Z</dcterms:created>
  <dc:creator> </dc:creator>
  <dc:description/>
  <dc:language>en-US</dc:language>
  <cp:lastModifiedBy>School District U46</cp:lastModifiedBy>
  <dcterms:modified xsi:type="dcterms:W3CDTF">2013-02-25T13:34:09Z</dcterms:modified>
  <cp:revision>15</cp:revision>
  <dc:subject/>
  <dc:title>The Holocaust</dc:title>
</cp:coreProperties>
</file>